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548A-51B5-4ECD-957A-2EE91E1254B9}" type="datetime2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80E7-CD4A-4FFA-884D-687A4E243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6AD9-2845-4965-949A-B5B22D94D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D902-6C1A-4F91-9838-43FF9E979861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EF29-E04B-40A0-BBE9-7D08A78CC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CB19-7DB5-454D-87D3-4F8C9A398583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CF64-50B6-4BE7-9381-2B1CCD125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784B-A299-463F-BB3C-B56A797E8FF5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25C5-EAA3-4310-95A4-A0B3B0F75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277C-EDE5-475E-A920-0EBB70123B4E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4D62-E9FC-4DDF-AC4A-E3431EAB7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4C6F-2F13-4C0F-B9F2-DF640983C104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FB2B-51D3-4D2E-9C62-2A736FB84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EE49-5EB3-46F1-B23E-D0E171C526F7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12BA-888C-4E2C-94CC-BDF8884F4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A135-0BC0-474B-B9B6-A806D2568061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8930-96EC-4D7B-8C68-ACE76520D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D09E-B76E-4029-B85D-287225126D8B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94D1-E0F6-45D5-B9E8-D2730EC26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E24E-8922-44A9-A6C0-C04CD75C19E7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2878-749B-4AF2-B701-CADE2DF21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0AF9-9138-473C-A2EA-4BB205E99FA3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AE73-A529-44B1-8A44-7934E1C67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3D55-4B89-465B-9DCC-A50DBC5F612F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8B4412-BAF3-46A5-A842-15F6BDE0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6FE9CF-6AEA-4C07-B8E5-C82BC68A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CE1011-4ECA-4300-8C58-FB0DCB81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FFA3E9-C7CF-42B0-83E9-B1E8BE74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6AF586-FE7E-4520-8907-329CA6CF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42DA23-7965-4B7E-B139-EF0ABD5D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62A136-52BE-4232-8310-7916E127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607EA9-A39C-47DA-86B4-0448F58F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D308A5-9B5F-4663-8A4E-F1972639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AAFEFF-94E3-4A16-B7AC-5472EA23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8B153C-6CA8-4F11-A6A5-0CF0C76D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6D37DA-8526-4798-81C3-E7BD5E7A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2D25A0-BA6C-4AF1-BCBD-97841764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36721D-B032-4569-8A0C-36185ACB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75C016-3402-415B-A60F-19B6D435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7FF51A-3297-41A9-8E80-7CEF9CE6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7D885B-03D4-4468-9634-8657532A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CBB0C4-0289-48F1-A25B-6DC2115A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A85475-E82C-4BB9-B876-D6FE23B4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9B2B6B-A11B-4A8E-B555-322B5FEB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DD5DF4-4B66-463F-912C-ABD1B1EC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2DE487-AEFD-4B53-8B16-5DC63EE8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70042D-FC8F-483B-9144-C411C694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D53A75-4883-4D3A-A8B1-B9CE5CA2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05239E-5DF5-4F23-BFFC-AE9173F2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7DB893-DA75-4494-A26F-BFBD25C6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8C5B19-C3A0-4DD2-8807-CF14174E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A51F8B-16CB-4903-A2DE-969ABEF2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1C5AA0-D8B2-4780-B0E1-422FB19F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F8BEB7-BAFD-44E8-ACEF-F8EA62DA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BFE8AB-AC90-4778-B09A-E8476186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CED618-2403-466E-80C5-26B940F9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9B8162-CDAE-481A-98AB-776227B8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973BAD-6FFF-4F19-AE5A-CADC3BA7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5CDF1C-0A39-4C1B-8CA1-F62BD54E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E98A1C-1F3B-4E2E-842D-4616870A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68E20A-4F31-4ECB-B94F-FEFAB2E2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650297-3A4D-497A-BD3C-DAD90AEA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C3AA41-0180-4009-824D-58E75F3F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69EFB0-7E00-4CA9-963E-2330094F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8CCDF7-8F51-4113-A503-1FF29907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2E88D6-C219-4C8F-9A5F-BB8C6A5F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DDD234-2805-4635-85B7-29D479FC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643F16-2785-49B9-B6B4-AE946609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A4773B-6F18-4CE1-9FDD-73C01204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0117C-746D-4034-810B-0A36D425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9AB35-0B82-4C51-99FB-7342D6DC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0648F-DFC9-469B-8B3D-95B8CB1B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2DC09-BD38-459E-A596-4953F052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A3F02-F2A7-4773-A281-091C7D27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F63F1-634B-4B5D-AF8B-D7EEA5FD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F586D-BFFA-4EC1-8768-D62E77DD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DB3F9-6F6E-4037-9F6F-BBE9745F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37ACC-38C5-475B-BC2D-C4FBB8F3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12D0F-3E79-408A-8CC4-126567CC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A4513-E7F6-4427-9230-C771973E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126CA-C1B9-4047-A1F6-89A44661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58D19-B0FA-4497-8B00-7BFBF643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8CEED-284D-4852-8E86-2AF1FA1E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C5FDA-22B5-48AA-8CCE-2E40B0EE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F8416-F9D5-4050-A3A3-A78E99EE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F039B-3CF8-426C-9A11-75ED3980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FF48C-65DD-4F9B-B91D-6EA25B65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96E81-BF2D-4833-A459-74E30EBD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4D874-C06B-4ACF-99D3-6893220A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8B88B-9050-44A5-AE14-F368A4E2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4E8C8-1B75-4236-B534-3F58940E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B2B46-0EFD-41D5-9E67-B01EE2FF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4AF50-4278-4701-BFBF-C2212D75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C73E5-792B-4B70-863D-A616B2DA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6120B5-231F-465D-B8CE-1BE2C394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DA704-D277-4222-9B66-57B23743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8F14A5-EF35-482A-8FAB-1A1FD4A3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C8439-A064-4649-94E9-CF014242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F1F01-FE6A-4843-A181-88298575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533C99-2985-487B-9BFF-247C4832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0BAF6-D1FE-491F-BF95-842A79EF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651AD0-9960-4CA5-9AAC-B08E8EAD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6E96F2-7664-4F88-AA51-3AFBB565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4F350-2049-483D-A60D-D28A71C5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B11BA-5F7B-49B7-97AE-06C99A77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C1034-8D72-464E-817D-1A58A3AA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ED2C7F-D726-49D7-844A-72FC08F4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21F9B-B5AF-48B4-AC07-38B24BAC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B1B48-55B7-4DBF-A7F4-86AA1FDB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F596E-ECDA-4C22-B42D-6274DD81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3998A-16E3-4C41-9183-EA9FE763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330C2-4D54-416F-97DC-439D9B0F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9CEB5-CA67-4305-AC36-35742B1B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FFA09-0D1F-4A00-887E-2969BE05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AA5511-8D60-43EA-B9B2-DA865539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80685-7C59-417E-87F0-D8B17351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D12CA-B5BF-48F5-9C3A-D99DA4AA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1EB4DB-2276-4011-BF0E-13563F6A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AEB07-2AE1-43C8-879B-6C5EE8C4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37F01-D75A-4CEB-AE4B-518B9CA0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C0120-653A-4C9D-A700-F5FCA43D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81603-0556-4C52-9C7F-6C2D28FD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0261F-C5F9-4F10-8BCC-D7C05B8A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E3431-747B-495E-BA63-B58BCD20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377B8-3E60-45EA-A255-7E0C5B2C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E30C76-7184-40E5-8EE8-ECFE924A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F5E73-718E-458F-B77E-638F544D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2A9A0C-0B0A-4CDD-A2A0-C84B3DF1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4D7E3D-0E0E-461F-ACBA-9E3D211B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2D93A-C8BC-41BB-9A55-0CF943E0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4F86A-3A13-4E52-BC1A-1C5D3C69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37B0E3-3B24-45CE-A4AB-94D7D055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B0173-E7FD-409F-B0E1-FC01DDCD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2C660B-E4B7-41BD-9F57-409514E0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9C989-AE83-4F17-99B6-1C5719CE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DE4A0-659F-4C44-AE44-AF090A01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7BC4E-5585-43DF-B7FF-7400DB86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BA0ECA-8908-4AC0-A711-A6218859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1EDB1E-14CF-49EE-B9D2-0C2F5896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6237C-48A3-4C37-94EA-D9A8F552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D6BCD3-BB4D-4B75-9B23-0BA5C9D4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8BE782-779E-4BC4-873A-9CF22ABA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ACF27E-6807-453F-8BF0-0AC012FC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8EC7CF-20B8-4385-9457-F0FE47E9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17E6-5E23-40FF-A213-B191462573D4}" type="datetime2"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35C22F1-1DC2-4D3E-AD9A-14A2587FCD5F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F042A90-714F-4BDA-81AC-924EA5E3A918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4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0A91-9452-4C98-B194-0EBD5F7584B5}" type="datetime2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9E71-5786-45B0-B423-915BF05667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B24B6B6-3CFE-4142-8A81-8A521010905D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7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17E2-D4A7-4E01-97B6-4938F8C86E82}" type="datetime2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649F-A41C-40A3-A385-F00EFDCF51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333919D-C064-4B3D-B796-E4F521AB5ABC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0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D421-BCB5-4247-AF75-AC66DA5FB9D1}" type="datetime2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552C-F4ED-4234-B11B-11E5CAB02B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30D661A-4D8F-4768-ADE2-1B4203147202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PPt_TopBand_Artwork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1030" descr=""/>
          <p:cNvPicPr/>
          <p:nvPr/>
        </p:nvPicPr>
        <p:blipFill>
          <a:blip r:embed="rId4"/>
          <a:stretch/>
        </p:blipFill>
        <p:spPr>
          <a:xfrm>
            <a:off x="-19080" y="1432080"/>
            <a:ext cx="635040" cy="5438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5"/>
          <a:stretch/>
        </p:blipFill>
        <p:spPr>
          <a:xfrm>
            <a:off x="0" y="7621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9769-8464-4B31-8F3F-A2F36DDB902A}" type="datetime2"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061C414-32FA-4DD8-8C05-0CE995885A0B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1212-6FCD-4D13-926D-7331CC0C7B4E}" type="datetime2"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EB25-9684-44F3-B5D4-AE254A2260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1E01C61-2717-45D0-AB0B-028BC62939C2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6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E25D-5A43-4B29-9542-41EEA3B6AA37}" type="datetime2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0D3D-0541-42C1-8BAC-F301A6AFEF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9EFD1A6-BCC7-44B5-968D-0E5E65F1B2F3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9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7650-F14A-461A-B351-891648B97D5D}" type="datetime2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2F91-8FEB-45C5-98C5-24440480DE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46167EB-FBE2-4116-BFB3-47C892BA4692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2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6DDD-762E-4970-B618-6636E8038BDB}" type="datetime2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9EBB-09D3-4CC6-BC80-F1DDE2A067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F818E6A-36A5-41A6-BC6D-BB4E2BB015D2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5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3269-8B8C-43EF-ACB4-FF0E09200A07}" type="datetime2"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E602-AED9-4C15-9CCB-5ABB9DFAFC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570FE3E-3F11-4A0F-A3FE-AEC9049AF9E1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8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4A9C-C483-4358-BEE2-F4F6A56874FA}" type="datetime2"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4C67-08B4-4975-AF0C-98F9042F7C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A9C4D44-7F84-4C90-8890-37003C26FBFC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1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4B5A-4B6B-4BF0-BE08-6639FF131374}" type="datetime2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7CE1-C1A1-4CE0-B744-5C2954356B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WordArt 4"/>
          <p:cNvSpPr txBox="1"/>
          <p:nvPr/>
        </p:nvSpPr>
        <p:spPr>
          <a:xfrm>
            <a:off x="609480" y="2362320"/>
            <a:ext cx="83822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Running an Academ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35" name="Date Placeholder 5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BF58-2391-4B25-96DF-CDF939C9DFA1}" type="datetime2">
              <a:rPr b="1" i="1" lang="en-US" sz="1200" spc="-1" strike="noStrike">
                <a:solidFill>
                  <a:srgbClr val="00999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tivations As A Local Academy (Cont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76320" y="182844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articipation of our Cisco students in deploying network in faculties, departments, and  units of the univers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ability to train, educate and prepare potential employees and students for higher education in our society is fulfilling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ving our graduates as employees and students in reputable establishments and institutions of learning as a result of their Cisco certificates is a source of motivation to our competent and outstanding instructors to strive high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7B8F-DD80-4FB1-A4AC-DC84729785D4}" type="datetime2">
              <a:rPr b="1" i="1" lang="en-US" sz="1200" spc="-1" strike="noStrike">
                <a:solidFill>
                  <a:srgbClr val="00999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llenges Faced As Local Acade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52280" y="1951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over growing number of students compare to the number of equipment is quite challeng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lligent exams malpractice by stud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isting our graduates to secure jobs/further their edu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ose earlier mentioned managerial challenges also affects the running of the Unijos 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CC62-F157-48E1-B90F-334436815A4C}" type="datetime2">
              <a:rPr b="1" i="1" lang="en-US" sz="1200" spc="-1" strike="noStrike">
                <a:solidFill>
                  <a:srgbClr val="00999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unning an Academy as Reg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76320" y="175212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task of running a regional academy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ruiting LAs  - New &amp; potenti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in &amp; re-train LAs Instru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rting the LAs- by attending to their problems, paying visits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suring that LAs practice and promote Cisco QA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0ACB-61D0-4E74-827B-3E0DA42C44DF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unning an Academy as Local Acade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52280" y="17521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task of running a local academy inclu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ined and maintain instructors &amp; administ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rket and promote the Academy within your community i.e. focus on the Academy growth – use flyers, handbills, posters, presentations, et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cus on students’ outcomes – improving their perform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ign skills with specific jobs in networ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lates with your Alumn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F31A-67EF-42EA-BB43-DF8A39A6060D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nagerial Motiv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0" y="1951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on readiness to support  the Cisco Networking Academy program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titution partners’ keen interest in supporting and promoting Cisco Academy activities both in-kind and via funding – for instance, the purchase of Lab bundles, Netlabs, Scholarships, Computer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0F25-25E9-4962-9A5D-3F551E05338C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nagerial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04560" y="1951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untimely release of funds for Academy activit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ck of adequate motivational emoluments for Instructors as obtained in other IT related indust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to sustain the scholarships support to female  students after the University’s partnership with Carnegie Foundation of New Yor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9C97-42C6-4175-9613-FAC799B283D9}" type="datetime2">
              <a:rPr b="1" i="1" lang="en-US" sz="1200" spc="-1" strike="noStrike">
                <a:solidFill>
                  <a:srgbClr val="00999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56340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tivations As A Regional Acade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8600" y="1828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ility to recruit and maintain LAs is quite fulfilling and motivation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isfaction after supporting or resolving problems for LA(s). A consultant’s skills been develo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ide of having LA(s) in a given place, especially when one travel to LAs’ environ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3912-86DC-438D-9FC2-AB0DA8A36F7D}" type="datetime2">
              <a:rPr b="1" i="1" lang="en-US" sz="1200" spc="-1" strike="noStrike">
                <a:solidFill>
                  <a:srgbClr val="00999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56340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tivations As A Regional Acade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al/human network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ngst fellow instructors both within &amp; outside Nigeria – For instance, relationship built in other workshops and conferences with Cisco relationship as binding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cognition of the RA performance via several awards is motiva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5B64-7A66-49B8-97E1-E04F58141C30}" type="datetime2">
              <a:rPr b="1" i="1" lang="en-US" sz="1200" spc="-1" strike="noStrike">
                <a:solidFill>
                  <a:srgbClr val="00999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llenges Faced As A Regional Acade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28240" y="1874880"/>
            <a:ext cx="8915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itoring L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ck of compliances to operational procedures by L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equent changes in LMCs at the LAs affects continuity at LAs and communication with the 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s’ management operational policies affects their effectiveness and how RA could interve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B536-AC88-4D0C-A3CE-D9A04D763630}" type="datetime2">
              <a:rPr b="1" i="1" lang="en-US" sz="1200" spc="-1" strike="noStrike">
                <a:solidFill>
                  <a:srgbClr val="00999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tivations As A Local Acade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de of training staffs from Telecoms and other industries e.g. Glo, Celtel, CBN, Vom Vet, Film Cooperation, M-tel, Unijos staffs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an in-house capacity and skills of staffs by partaking in the Cisco Networking Academy which enable them to better manage the university’s networ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ching our local communities with IT skills and knowledge is highly motiv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EDA3-BC6B-4975-9151-046AC61F4446}" type="datetime2">
              <a:rPr b="1" i="1" lang="en-US" sz="1200" spc="-1" strike="noStrike">
                <a:solidFill>
                  <a:srgbClr val="009999"/>
                </a:solidFill>
                <a:latin typeface="Calibri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2:47:09Z</dcterms:created>
  <dc:creator>gogwim</dc:creator>
  <dc:description/>
  <dc:language>en-US</dc:language>
  <cp:lastModifiedBy>gogwim</cp:lastModifiedBy>
  <dcterms:modified xsi:type="dcterms:W3CDTF">2009-03-31T14:46:08Z</dcterms:modified>
  <cp:revision>15</cp:revision>
  <dc:subject/>
  <dc:title>MOTIVATION &amp; CHALLENGIES</dc:title>
</cp:coreProperties>
</file>